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F848-5C77-4C5D-81D4-F486F26B2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EA28-0920-4278-9092-47159F52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632E-E684-4E90-B629-DE2DAABE5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0B90-710A-4782-85A5-85EBD9CF8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8B3C-8EDF-4F00-8264-76F1622A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F9B8-BFF9-44A8-949F-B9BEF07E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B0BA-9B7F-4964-9DFC-6F25E665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E31F-1A85-4B98-963E-21036D54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D508-895D-42DB-A1E3-06C59ABA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28F2-327B-497B-8E49-9320ACB6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15AD-0AC9-4720-A23B-CD3EEDD9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8D5B-821E-4D49-862D-A800D0B2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B377-A5CF-4044-B090-F790D185AB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69960" y="905040"/>
            <a:ext cx="7796160" cy="4930560"/>
            <a:chOff x="669960" y="905040"/>
            <a:chExt cx="7796160" cy="4930560"/>
          </a:xfrm>
        </p:grpSpPr>
        <p:sp>
          <p:nvSpPr>
            <p:cNvPr id="42" name=""/>
            <p:cNvSpPr/>
            <p:nvPr/>
          </p:nvSpPr>
          <p:spPr>
            <a:xfrm>
              <a:off x="669960" y="905040"/>
              <a:ext cx="7796160" cy="493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868560" y="1273320"/>
              <a:ext cx="1400400" cy="50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ighways Agenc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" name=""/>
            <p:cNvCxnSpPr/>
            <p:nvPr/>
          </p:nvCxnSpPr>
          <p:spPr>
            <a:xfrm>
              <a:off x="4087440" y="1836720"/>
              <a:ext cx="1080" cy="737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45" name=""/>
            <p:cNvSpPr/>
            <p:nvPr/>
          </p:nvSpPr>
          <p:spPr>
            <a:xfrm>
              <a:off x="2797200" y="4368960"/>
              <a:ext cx="952560" cy="36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ac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8120" y="1947960"/>
              <a:ext cx="987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cession Agre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112160" y="3622680"/>
              <a:ext cx="877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an Agre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288040" y="4606920"/>
              <a:ext cx="1104840" cy="55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vesto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63760" y="2552760"/>
              <a:ext cx="6200640" cy="60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cessionair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57360" y="3622680"/>
              <a:ext cx="1076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sign and Construction Agre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02000" y="4498920"/>
              <a:ext cx="878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hareholder Agre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57640" y="1947960"/>
              <a:ext cx="1101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hadow Toll Agre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35680" y="1795320"/>
              <a:ext cx="4680" cy="75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97200" y="5025960"/>
              <a:ext cx="952560" cy="36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pera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06880" y="3622680"/>
              <a:ext cx="878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nancing Agre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" name=""/>
            <p:cNvCxnSpPr>
              <a:stCxn id="54" idx="3"/>
              <a:endCxn id="48" idx="1"/>
            </p:cNvCxnSpPr>
            <p:nvPr/>
          </p:nvCxnSpPr>
          <p:spPr>
            <a:xfrm flipV="1">
              <a:off x="3749760" y="4884480"/>
              <a:ext cx="1538640" cy="321840"/>
            </a:xfrm>
            <a:prstGeom prst="bentConnector3">
              <a:avLst>
                <a:gd name="adj1" fmla="val 5040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" name=""/>
            <p:cNvCxnSpPr>
              <a:stCxn id="45" idx="3"/>
              <a:endCxn id="48" idx="1"/>
            </p:cNvCxnSpPr>
            <p:nvPr/>
          </p:nvCxnSpPr>
          <p:spPr>
            <a:xfrm>
              <a:off x="3749760" y="4548960"/>
              <a:ext cx="1538640" cy="335880"/>
            </a:xfrm>
            <a:prstGeom prst="bentConnector3">
              <a:avLst>
                <a:gd name="adj1" fmla="val 5040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" name=""/>
            <p:cNvCxnSpPr>
              <a:stCxn id="54" idx="1"/>
              <a:endCxn id="59" idx="2"/>
            </p:cNvCxnSpPr>
            <p:nvPr/>
          </p:nvCxnSpPr>
          <p:spPr>
            <a:xfrm rot="10800000">
              <a:off x="2042640" y="3146040"/>
              <a:ext cx="754560" cy="20599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" name=""/>
            <p:cNvSpPr/>
            <p:nvPr/>
          </p:nvSpPr>
          <p:spPr>
            <a:xfrm>
              <a:off x="1886040" y="2933640"/>
              <a:ext cx="31428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05080" y="2933640"/>
              <a:ext cx="31428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" name=""/>
            <p:cNvCxnSpPr>
              <a:stCxn id="45" idx="1"/>
              <a:endCxn id="60" idx="2"/>
            </p:cNvCxnSpPr>
            <p:nvPr/>
          </p:nvCxnSpPr>
          <p:spPr>
            <a:xfrm rot="10800000">
              <a:off x="2461680" y="3146400"/>
              <a:ext cx="335520" cy="14029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2" name=""/>
            <p:cNvSpPr/>
            <p:nvPr/>
          </p:nvSpPr>
          <p:spPr>
            <a:xfrm>
              <a:off x="5683320" y="2933640"/>
              <a:ext cx="31428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9560" y="4606920"/>
              <a:ext cx="1104840" cy="55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end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954840" y="2933640"/>
              <a:ext cx="31428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" name=""/>
            <p:cNvCxnSpPr>
              <a:stCxn id="48" idx="0"/>
              <a:endCxn id="62" idx="2"/>
            </p:cNvCxnSpPr>
            <p:nvPr/>
          </p:nvCxnSpPr>
          <p:spPr>
            <a:xfrm rot="16200000">
              <a:off x="5110200" y="3876480"/>
              <a:ext cx="1460880" cy="3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" name=""/>
            <p:cNvCxnSpPr>
              <a:stCxn id="63" idx="0"/>
              <a:endCxn id="64" idx="2"/>
            </p:cNvCxnSpPr>
            <p:nvPr/>
          </p:nvCxnSpPr>
          <p:spPr>
            <a:xfrm rot="16200000">
              <a:off x="6381720" y="3876480"/>
              <a:ext cx="1460880" cy="3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7" name=""/>
            <p:cNvSpPr/>
            <p:nvPr/>
          </p:nvSpPr>
          <p:spPr>
            <a:xfrm>
              <a:off x="1000080" y="3622680"/>
              <a:ext cx="1076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erating and Maintenance Agre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284040" y="1320840"/>
            <a:ext cx="6435720" cy="3720960"/>
            <a:chOff x="284040" y="1320840"/>
            <a:chExt cx="6435720" cy="3720960"/>
          </a:xfrm>
        </p:grpSpPr>
        <p:sp>
          <p:nvSpPr>
            <p:cNvPr id="69" name=""/>
            <p:cNvSpPr/>
            <p:nvPr/>
          </p:nvSpPr>
          <p:spPr>
            <a:xfrm>
              <a:off x="3736800" y="2071800"/>
              <a:ext cx="4446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4040" y="1320840"/>
              <a:ext cx="6435720" cy="372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6120" y="2057400"/>
              <a:ext cx="1400040" cy="55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tt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859120" y="2057400"/>
              <a:ext cx="1285920" cy="55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genera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pan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48120" y="2940120"/>
              <a:ext cx="987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imited Partn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60640" y="2128680"/>
              <a:ext cx="99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ha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02080" y="2690640"/>
              <a:ext cx="904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ral Partn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43040" y="2655720"/>
              <a:ext cx="1127160" cy="73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241880" y="2630520"/>
              <a:ext cx="1193760" cy="75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44880" y="2057400"/>
              <a:ext cx="1390680" cy="55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hns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825640" y="3395520"/>
              <a:ext cx="1352520" cy="90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gene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rtnership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02080" y="26179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09680" y="2335320"/>
              <a:ext cx="65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135320" y="2335320"/>
              <a:ext cx="71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27320" y="2128680"/>
              <a:ext cx="992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ha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200240" y="2940120"/>
              <a:ext cx="987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imited Partn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40" y="3610080"/>
              <a:ext cx="1400040" cy="55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ssiv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quity Investo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71880" y="3903840"/>
              <a:ext cx="65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71720" y="3521160"/>
              <a:ext cx="987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imited Partn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997520" y="3583080"/>
              <a:ext cx="1400040" cy="55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ng-ter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nd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127400" y="3568680"/>
              <a:ext cx="98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bt serv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237200" y="3795840"/>
              <a:ext cx="76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92560" y="4033800"/>
              <a:ext cx="76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145040" y="3825720"/>
              <a:ext cx="98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b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85840" y="2303640"/>
              <a:ext cx="99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079880" y="2316240"/>
              <a:ext cx="99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38600" y="2781360"/>
              <a:ext cx="99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75360" y="2938320"/>
              <a:ext cx="99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2.22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20880" y="2943360"/>
              <a:ext cx="99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2.22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65240" y="3906720"/>
              <a:ext cx="99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5.56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379440" y="2405160"/>
            <a:ext cx="6435720" cy="4225680"/>
            <a:chOff x="379440" y="2405160"/>
            <a:chExt cx="6435720" cy="4225680"/>
          </a:xfrm>
        </p:grpSpPr>
        <p:sp>
          <p:nvSpPr>
            <p:cNvPr id="100" name=""/>
            <p:cNvSpPr/>
            <p:nvPr/>
          </p:nvSpPr>
          <p:spPr>
            <a:xfrm>
              <a:off x="3736800" y="3873600"/>
              <a:ext cx="4446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9440" y="2405160"/>
              <a:ext cx="6435720" cy="422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06560" y="2649600"/>
              <a:ext cx="1400400" cy="506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tt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3" name=""/>
            <p:cNvCxnSpPr>
              <a:stCxn id="102" idx="2"/>
              <a:endCxn id="104" idx="0"/>
            </p:cNvCxnSpPr>
            <p:nvPr/>
          </p:nvCxnSpPr>
          <p:spPr>
            <a:xfrm>
              <a:off x="3506400" y="3155760"/>
              <a:ext cx="3960" cy="717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5" name=""/>
            <p:cNvSpPr/>
            <p:nvPr/>
          </p:nvSpPr>
          <p:spPr>
            <a:xfrm>
              <a:off x="660240" y="4071960"/>
              <a:ext cx="1095480" cy="55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al M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90640" y="4348080"/>
              <a:ext cx="104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41400" y="3952800"/>
              <a:ext cx="878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al Supply Agre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14600" y="3265560"/>
              <a:ext cx="987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truction Contra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79960" y="4505400"/>
              <a:ext cx="992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erating Contra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57720" y="3587760"/>
              <a:ext cx="904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lectricity Purchase Agre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2080" y="4780080"/>
              <a:ext cx="0" cy="10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5141880"/>
              <a:ext cx="877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eam Purchase Agre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189320" y="4476600"/>
              <a:ext cx="99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16320" y="4137120"/>
              <a:ext cx="97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75360" y="3865680"/>
              <a:ext cx="1352520" cy="90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hns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0200" y="5783400"/>
              <a:ext cx="923760" cy="55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itroc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33560" y="3873600"/>
              <a:ext cx="1352520" cy="90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gene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c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4635360" y="3498840"/>
            <a:ext cx="4440240" cy="3324240"/>
            <a:chOff x="4635360" y="3498840"/>
            <a:chExt cx="4440240" cy="3324240"/>
          </a:xfrm>
        </p:grpSpPr>
        <p:sp>
          <p:nvSpPr>
            <p:cNvPr id="118" name=""/>
            <p:cNvSpPr/>
            <p:nvPr/>
          </p:nvSpPr>
          <p:spPr>
            <a:xfrm>
              <a:off x="4635360" y="3498840"/>
              <a:ext cx="4440240" cy="332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37000" y="3728880"/>
              <a:ext cx="3370320" cy="2414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72280" y="4959360"/>
              <a:ext cx="80640" cy="118440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02320" y="4856040"/>
              <a:ext cx="79200" cy="12877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819760" y="5270400"/>
              <a:ext cx="81000" cy="87336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9800" y="5419800"/>
              <a:ext cx="81000" cy="72396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69040" y="5338800"/>
              <a:ext cx="81000" cy="80496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99080" y="5235480"/>
              <a:ext cx="81000" cy="9082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16880" y="5143680"/>
              <a:ext cx="80640" cy="10000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46920" y="5270400"/>
              <a:ext cx="81000" cy="87336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165800" y="5154480"/>
              <a:ext cx="81000" cy="9892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96200" y="5029200"/>
              <a:ext cx="81000" cy="111456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15080" y="4430880"/>
              <a:ext cx="79560" cy="17128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43680" y="4338720"/>
              <a:ext cx="81000" cy="180504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62920" y="4257720"/>
              <a:ext cx="81000" cy="188604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92960" y="4154400"/>
              <a:ext cx="81000" cy="198936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512200" y="4062240"/>
              <a:ext cx="79200" cy="20815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52920" y="5845320"/>
              <a:ext cx="79560" cy="2984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81520" y="5823000"/>
              <a:ext cx="69840" cy="320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00760" y="5270400"/>
              <a:ext cx="81000" cy="87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30800" y="5419800"/>
              <a:ext cx="68400" cy="723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50040" y="5338800"/>
              <a:ext cx="79200" cy="804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80080" y="5235480"/>
              <a:ext cx="68400" cy="9082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97520" y="5143680"/>
              <a:ext cx="81000" cy="1000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27920" y="5270400"/>
              <a:ext cx="69840" cy="87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46800" y="5154480"/>
              <a:ext cx="79560" cy="9892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77200" y="5029200"/>
              <a:ext cx="68040" cy="11145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94640" y="4430880"/>
              <a:ext cx="81000" cy="17128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24680" y="4338720"/>
              <a:ext cx="69840" cy="18050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143920" y="4257720"/>
              <a:ext cx="79200" cy="18860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73960" y="4154400"/>
              <a:ext cx="68400" cy="1989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91400" y="4062240"/>
              <a:ext cx="81000" cy="20815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02080" y="614376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02080" y="584532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02080" y="554688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02080" y="523548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02080" y="493704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02080" y="463716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02080" y="433872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02080" y="402732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02080" y="372888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337000" y="61434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5567400" y="61434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786280" y="61434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6016680" y="61434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234120" y="61434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6464160" y="61434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6683400" y="61434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6913440" y="61434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130880" y="61434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361280" y="61434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580160" y="61434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7810560" y="61434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8028000" y="61434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8258040" y="61434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477280" y="61434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8707320" y="61434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73120" y="6064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02920" y="5764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02920" y="5465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02920" y="51544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02920" y="4856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002920" y="45576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02920" y="4257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02920" y="39481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02920" y="36482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17640" y="624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35440" y="624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65480" y="624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84360" y="624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14760" y="624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33640" y="624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62240" y="624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92640" y="624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11520" y="624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407000" y="6248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625880" y="6248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56280" y="6248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3720" y="6248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303760" y="6248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523000" y="6248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78520" y="6489720"/>
              <a:ext cx="27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4291920" y="4922640"/>
              <a:ext cx="1134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fter-tax cash flo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40320" y="3844800"/>
              <a:ext cx="1150920" cy="447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86400" y="3924360"/>
              <a:ext cx="81000" cy="8100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602680" y="3878280"/>
              <a:ext cx="919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imited Partn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86400" y="4143240"/>
              <a:ext cx="81000" cy="810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01600" y="4097160"/>
              <a:ext cx="963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ral Partn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35360" y="3498840"/>
              <a:ext cx="4440240" cy="33242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3T13:48:24Z</dcterms:created>
  <dc:creator>Frank Crundwell</dc:creator>
  <dc:description/>
  <dc:language>en-US</dc:language>
  <cp:lastModifiedBy>frank crundwell</cp:lastModifiedBy>
  <dcterms:modified xsi:type="dcterms:W3CDTF">2007-08-16T17:10:51Z</dcterms:modified>
  <cp:revision>23</cp:revision>
  <dc:subject/>
  <dc:title>Financial System</dc:title>
</cp:coreProperties>
</file>